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469-1904-4056-9282-46685D99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E62-8192-4203-BE62-1FA39DE0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4C9E3-FE98-457D-ACAE-13222F5D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87DDF-4E39-486B-9219-6035CE66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441D3-E809-43EF-AAED-805457B9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43085-66BE-4E14-B21B-F026E2C0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27A45-CDEB-4691-BC41-1266628A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111A1-62AC-4DFA-8F5C-A1FCC1BD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30E64-75B5-4DAC-8BD9-1A7BBC93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5EF7A-9D01-4CDF-9CCE-2B5CD772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07F17-0DC4-4875-B778-F7765D2B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AF0ED-2441-4131-B98E-054EB314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66A-8595-430A-9E4F-7617FBA1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D2F2D-8CFB-46B4-AD44-2A58E0B7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E3FBB-B446-4B4F-B3AC-01866767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FCA45-C62E-4883-B8A1-1821B78D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09324-4ED0-45F3-948B-FEBAB010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681AD-0E08-4D41-ADCB-D62A12EC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8778A-46AF-471E-A128-4DE8078C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8E377-1601-4E53-ADDD-AD7236A1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AD9DF-00B9-4FE1-AD89-B5F18B5B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A3BE7-BC01-4B86-89AC-BA179136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F434A-3869-4F90-9DEB-AF101FFA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5EF-A880-41D9-B04A-04232DB7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ADEC2-DC9C-4B83-8CD1-3FA2D83B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69021-33F8-4A7D-8BDA-D2DC907B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AC233-A15E-4B7D-BC8F-CB570E43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3F4FE-3BC1-46F0-86F4-9604700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50475-A1BC-4E7C-875C-B69FDC3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89733-EF33-4000-B77B-84288F6C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EDDE9-311C-451A-B6EB-BF730E88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D0BF0-9A5F-4C14-B4FE-A7A334A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6AAB3-1A88-4E43-8B59-D605913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BDADE-02DC-4CE1-B2EF-81CFB8F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CD6E-11F2-4470-AB2F-85C357CF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79B77-C4C9-4EEC-892E-695A6811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6ECFA-52D6-44D3-A79E-D611E35B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D7763-92BD-4E94-8D12-CA8D5277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06EA1-5CF6-44AA-A384-E84897DA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0F79A-3034-43D3-B823-F2DCEDCF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E34A8-129C-4080-8E3D-32991375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2E4BC-F6AC-4EF7-8BC0-C377C042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BD462-6CF3-417A-A1FA-7CC50F8D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ED6CF-DD5A-4347-8043-8F16CBCA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D17B2-AFCF-4DA6-B5CD-DD54313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9A50-8FD3-4C59-9349-496DDD12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2331A-E5E3-4E4E-8985-842F334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E234E-163C-40D8-9989-FF2648DB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18FCC-F5A0-4E57-8233-A91E0D98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9C90E-2916-4462-8D19-C6E13A46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6D67B-5119-4C8D-B492-6432B47E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B00AE-F4C9-462B-8B53-B08DBC50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64C5C-14C1-488D-B35E-E84CC3D2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57852-B431-4A8D-AEC3-B6697E19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22040-B2FC-43E6-934F-657EFAB1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1ED95-5360-4386-8497-4D89F713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2E38-1A44-468B-ABF4-FA0834BA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FA045-5B7B-4BF4-9430-D94316E8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A1425-3F91-4976-A653-3EC40179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553D1-8541-45BF-BFE8-F6C2C0A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778D2-CEC1-4B91-BF36-48647AE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11634-4C5C-409B-BE53-B13BB3A0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70864-91B2-4179-B242-26B5D791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6AEF0-1A0A-42BB-A6C6-07AD6A8B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D2E55-9E64-42B6-B97A-656F3B8B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FF43A-C187-4A04-90AE-7E57ACE3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09C0D-3528-4EB2-A9BF-5C107165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91A-1BC8-4AA5-8580-63185441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81EF3-1F7E-4C55-B6AF-0638BCA7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9AC2E-E478-497D-BB83-A1259CF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61DB9-10E3-4563-9CFD-8BDCB40F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2D756-5B51-4CF9-9150-897B4756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11D60-8C2A-4FA0-A270-1C2BE10B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95993-480F-4534-9BC8-718A611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E80EA-B066-44FC-A771-B66020FC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725F1-4E48-4321-A766-273B8232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9B7B6-0063-4586-A354-789761C1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0F754-A373-46C7-8476-2825A991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6637-0274-4E07-8A3F-0C7E1011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4EDDC-47B2-4838-89D5-06A76753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C8717-DB87-48CA-AB4F-ABFD7D1F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51809-C009-4B85-BBF2-23A2724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BEB11-7531-49C1-AFA4-1AB099BE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67838-20EB-4ABB-88BA-470BC2B3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1082A-F4A4-4956-8752-3836485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1A8A1-37E4-4A5B-91E7-F853BDBF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994A2-BD56-41D5-A186-78255C11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6B421-BA69-495B-A2CE-0BD719B2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D756E-E361-4D83-BFDF-97A7E890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548D-3874-49E4-AA5D-2122097B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4F82D-DA1F-4E59-9F54-33F0143E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A9F9F-628A-4B0A-AE21-C4B79E91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3F0C7-9A78-4554-9DCE-E7B6AAAD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95145-8DE1-430F-A734-40A77F27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CADE8-0341-445E-B15A-ED85A920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EA7D3-FC72-4EBE-A16B-F1AD88BB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F5F6C-9FC6-4355-B87E-E861CE3A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51582-13B1-46D3-9482-38846D7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CB591-14C6-45B6-B6DE-11CEB70E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7C9A81-7D0B-483E-84A2-3493DB8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576-E0CD-42FE-9D42-9876B31F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4D759-6AF6-4E3C-BA87-2C77FC8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10A2F-58EC-4DAC-9A2E-404B213F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40A72-48A9-47CD-B20F-0D6882A8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62ADFF-9967-408F-8108-BEBDA72C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FF8A0-C56C-4362-9BF1-D6E1535D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4608E-E926-4924-948F-0766FE15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765C7E-979D-49AC-A1DE-11AABD08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9FB3C-E365-4C38-B6EC-4C50B562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1BD69-3F58-455C-8DA9-F34385DA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D1E4C-172F-42CC-988E-AB84661A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464-CC4B-42CF-A1D2-010E8A9A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4339-27FC-497D-B4B0-79EB13F0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037E6-6F67-4157-A401-CE7C8276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71209-044E-47BD-96CF-BDE8092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2EA18-C08C-4D2A-9AA8-B2DA59C1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FAA6F-E60E-4206-9BF6-809534FA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ACDBF-A442-4436-9FF2-BAECE535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4310C-2CDD-4C2F-92EF-32E39F3B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0A3D2-23B4-43AF-A519-EEBD391A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46852-FFF4-4A83-81D9-26D6AD46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72002-15EF-458C-A3D9-CA4773EA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78F1F-7AF3-44F6-960A-D1627CBD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E95B-1D76-41B9-9E70-4451F5E3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772AD-3FFF-4A10-9882-756287D6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CC85E-CAA8-4B21-849B-211F9C2E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53B80-B7B1-4712-9B90-E53F7B3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78CC1-CE00-4AF2-97BE-BE3069F0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FAD2C-F42C-4996-A233-F7F5019C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34910-1B4A-416F-8A7E-2FBA4905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B934A-C479-4112-B3CD-23D504CB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2CAAC-E2DB-4EDD-A043-D6C9FA49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1D7E18-EFAA-4112-B50E-199B0E11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515554-199E-4E1D-8BBB-B6CA9070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4D0F-D3BB-4C1F-A9E1-56C641FC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3E4EB-BF21-42AD-A1EA-2F3EBEB8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276BE-5CE4-4FE9-AC42-ABCCA92F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583F8-C001-42E0-A938-738D80C1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18226-1BF0-41B9-B4C8-A5D32905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3C3219-B407-4639-AB9B-375D3B9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9BE4A-5314-406B-9732-B61F63A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72C6E-CB2C-44CF-8981-BA931A3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633B5-D7F6-43FC-BBBD-76355A0E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743E4-6782-4180-ADF8-B19BFC14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AEB1C-C0E8-4172-85FB-847E49FA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DC78-53A3-4C63-8215-B52A3083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BD7207-BE66-4139-837C-1A4D1B6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08D61-22AE-4FD6-9749-432606C9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16F86-6DB3-4184-BFC1-536F1811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75CCF-65BA-4982-94A0-7941CA01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E0DD75-0EBB-49E7-B6AD-B2FC0EC6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3C3C8-F74A-4FD4-9FB5-78E7ADF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22CBE5-E165-4982-8BE7-0C282222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E1020-4CC2-4FE7-90BF-9E73F0F8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3F795-E32B-4002-BF63-3D0D6BC8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26834D-C265-410C-980B-B8ABAAC6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10FD-9574-4BF2-B574-E27FA5D6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3F0D2-A72A-40A6-BE09-334EADCF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8D71DB-A6F1-4CA3-9AAB-8FBC88BA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1D601-004C-4BCA-B742-A8389BB1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60703-4C19-488B-AF64-E4C3FC62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63E30D-78E8-4086-88BE-B1BF7767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5F185F-0184-4C49-A022-DB37F489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636E8-9684-4846-8015-3A6803F1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2D241-6BFC-461B-8A26-C5A8F3F1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629F23-65B3-4381-AF11-AD6AAC10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07E07-A60C-455F-BF44-A226D9F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8CFE-11C8-485B-A806-51BD503D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D9EF1E-2829-4A1D-BDAA-AFA5AF35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4A782-491A-4D3C-8C8A-CD8BC344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9CA97-DC7E-402F-9042-1BDBCA8A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0B1E45-9B88-4BA6-9D28-F089EF5C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7856BE-A79C-43FC-BE56-192318F7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355D7D-4906-41FA-AFB9-EBE47003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656E9E-1562-43B0-BB2C-F6F3E8E0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791F11-2FEF-4A12-A470-4AF229F7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76E1B6-6AD8-495A-8132-01DEB6BA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9D6216-C120-4E3B-BBEC-543A63CE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5987-D764-4E85-ABFA-BC0F23E9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C3C39E-20EA-4A11-9F81-D70CA943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609977-B6B9-419D-9E7B-28FB2F63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FD924F-6EC1-4CE9-AF11-8CC5BE26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2DF334-AF2F-4440-A437-91BCBE29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00E17A-D9AD-4639-8ACA-C2E79FCA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760883-A37C-4867-981C-0B50245C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44B349-0DD4-47F5-BCC4-66420632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66A5CA-AB82-4999-B887-49B17503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A4F377-3C54-42F7-A250-8F23E5EC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B08DB-55D2-4480-A444-71ADB50D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3900-202F-4E0D-BCE0-FB049AE8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EDFE21-689B-440B-A488-371D852E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8C179F-CCA8-48DE-AD9E-CBB166EE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CB58C0-1F13-438F-997A-0F05443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8FE2A-9DC7-4E58-8323-6DBC5FE0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A6EE73-BB56-48F9-91DD-4B5A7E29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7341E-0ECD-41F8-833A-D189B3A5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F5BBCB-0049-49D2-BF0D-4FE96B49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72D3F-D309-407D-BD9B-5415DF58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0D87C0-607C-4813-9FB6-294660E2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07B1EF-B3B5-43CE-985D-91A8F8FD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28E3-DAFD-4265-92A1-28587506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CD8438-27E8-42F6-BC09-9BADEA0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7DB385-C0F2-4A20-A661-AB0CFBC7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3C1192-DA9C-43F4-94DD-F3081C4F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B8B705-B53C-4037-B9F6-AEB5DE62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7C1BBC-FE37-416F-9F46-5F90896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335329-C379-409C-BB35-70CCD5FF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0F88BC-603C-45A7-B53F-EDCCA861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984EBC-6E88-42B3-8F10-A5A4746B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5BB410-9668-47DC-A805-03C64E36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C6F18A-A41A-4908-A94E-B04B91F2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1021-4988-4B1E-84CA-E130A16A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52A7AA-B142-48F5-8A21-0DDBCE4C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96B3F2-13EA-42C7-9C26-4F9775C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7EB220-D652-47E8-B3E6-4D3DC48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545D4B-119F-4C46-9951-5EDCD3B0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9CF2C2-8E8C-4B34-8F1D-CF2C9534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ADDE5D-C26E-4E14-832A-0790D4B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29E986-4FBB-4884-B547-30C84AF1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CE51A9-5800-4166-8B97-63873AF9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610459-EA03-4FA4-AEAA-E7C4B4D5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785468-914A-4859-B80B-9D35DDB1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050-B402-4143-A89C-08774FF7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5A4B-858F-4814-AFC3-EBE75944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3E7F7C-A532-4FF9-BF6B-A3BC72BF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D64E02-6DFC-43E5-B239-D050AB25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5C44F7-65BE-4AA5-B0C2-6DE0EEAB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36C6FB-B4DE-48D8-820C-B9809C1C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4DC947-0011-41EE-BCCC-0E229D4E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E4564F-4E0F-4B42-B89A-660507B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6C7C17-DA93-42E3-A626-1B6C8842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3471AF-4322-4763-814D-850C427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FCEE33-9194-4613-B4D3-89F3B322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AB987D-BF26-4DBC-9E52-E5CDF558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9454-DBDB-4B4F-A3E5-55A8984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712216-42BE-49EB-8E82-6540B6AF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7863E6-0C32-407F-80F0-90BB9F9F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8D3CF7-F505-4F0D-982F-71C85113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ADAABF-95A7-4DEC-BC18-17A786E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C0041D-F4B4-458C-8A8C-CF522A1B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A93638-7104-424A-8618-D0853EB7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6D56D3-392E-46AE-949B-8A741CA4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2CC7E1-92A3-48CF-BD0F-E58202E5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045642-A0B5-4D17-8C4D-D3FC38BE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266122-CEFD-424A-AD5A-3F1CEFF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D2F3-6ECC-4BA0-A88C-4C3EF38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E95926-740C-4B82-8C44-24F3F278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DA5926-7E37-4200-86F5-CF22B28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15C4E1-8559-4345-8B23-A8A47466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13DB9F-4784-4C3F-BCA8-5ECE475A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675419-30E8-4D08-9218-53ED3C25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C07B97-5EF0-49F9-8D9C-F145D514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392955-F5E1-484A-B1D1-8B86F068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C47FA1-083E-4F33-BAF6-B52C52AC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376895-0094-4438-9367-8AFF7E3E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77AC54-6A5F-4DC6-9A17-FCA42933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830B-720E-4C87-8193-3DC5BB3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BEB67E-A264-4FF6-B800-A6C2170C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013035-0700-4FFA-81AA-FF3B814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411948-07EA-4918-8EBF-DD5947E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D7EC26-2689-4499-924B-926D2A02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2D8ECE-6EA7-4A04-8599-E8896501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2230AF-250E-48E6-89CA-CC252DE5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AFA3ED-197E-443B-8EDD-C2AACF87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353EE9-0283-4C22-9C3C-47817C20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F6B69F-426F-47FA-A8F1-7937C51D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906E42-3E43-4E31-ABE7-985F35C3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9CAE-4BE9-4B42-8429-6B90CF95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370130-A587-4F93-B797-B789D50E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0CA689-E886-4646-AC1C-9BDC8251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A6F02C-73DE-4810-AD42-9F38BA2E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65B9ED-EC91-446B-A963-B3107C75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2DD6C2-2DAB-4643-B380-51C31EBA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0EA3E0-64F1-455B-9665-74F9F59B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63CD19-406B-4661-B63B-B923795B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F022F1-3DA6-453E-9270-9A4276DF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9ED7FB-D947-4B33-996D-457BA7C5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B75C1C-3D44-43B6-9AA7-DBD49E0E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76E6-C8BB-4066-9B66-71875162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E0D512-DD16-4830-B1AB-AFD4BFFA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21C889-CC05-43CE-9300-E38330E9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78C301-313E-488A-89FB-AF4DA5DE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AFD9CF-F8B6-421F-9F59-51F3907B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8FF0CB-FFE1-4607-B521-F48ECD0B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4DCEF6-2B72-4134-9005-957B654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13785B-3372-4CCC-9A49-4F6B01A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4059FF-20E9-4024-A748-1D178C0C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BCCF6E-A62D-4267-8DE6-B457219A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9258EA-7996-4663-8C57-0D2BB8C1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5DE4-7D68-407C-9A1A-AFE2AF49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9BBE0C-71C7-40AE-BC72-2C111C02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979369-E528-4590-A333-434A8C08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1F54EE-C88C-4A31-8518-36FDAC0C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AB5B44-AEE0-4016-8319-0EC1032F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F2BD32-6425-4DB4-8E09-02E34513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3E390B-F8A6-476D-BA48-7C8AF714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27A8FC-8B95-40B0-957E-015D2F2F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84D8EE-9F40-43AE-B7BD-3BB1FCBE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65691B-9AB0-4F82-8DD9-76A002F1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E75F48-7C84-4316-911B-DEE11E5F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C0CC-8D6C-4D2F-931E-A53E8578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D8D1F0-5928-4CA2-BAA0-23406280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4D759D-A2B2-47DA-8A73-1C025EE1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66D87D-C58E-47E7-9ABF-1F57AA46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A135D3-E70B-406A-B6DC-72C35A96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07D22E-F448-4365-A661-E1907C7C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AE3BD1-E874-43BD-AE0C-8D0F7C51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89B0C0-B403-4CB3-B95C-C14DE407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90550F-C630-443B-94E3-ED6D05F2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AF8CB4-B1B6-4568-87CB-C3EF82EA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1D7D68-1C4B-4DC3-96F2-345E4185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83E2-8C6C-4516-91AB-556C7503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224A11-1278-459A-94A3-18522347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E5F896-2B65-4CB4-B6A0-723465A6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4DA5C4-F749-48CB-9470-F1CEB1A5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1C6F0F-DB29-4E01-93BE-F88B390A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D8685D-8BBF-4A8F-8E67-2B437D2C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2BF59B-464B-4FD8-9A4B-3588490B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05E212-6E94-443B-828B-B2F9CE4A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B02C6C-1A3F-4E56-B943-810D6074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BE8182-4B6B-4EC5-8870-72BAC766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74BAE2-2B66-416E-AA54-016A5839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626E-6471-43C2-BC16-3CCB0F3F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F6E953-AAEA-49E5-B4D4-E360B476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D72567-CF73-44E6-AABB-070C936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FB17B5-827E-4807-86C5-B66C415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039924-98F6-4FF6-B7E1-CE03401E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E80A84-A918-4154-AF24-2230A349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B4ECC2-D4CB-40B9-B7A3-88CF448D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89B150-2E3B-4873-BCC8-E52F6579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D0D319-2892-4A7E-BB03-9080E96B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4F0F67-65F3-44CD-B8A6-F5D0C991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E39F9A-990C-4231-B5EC-D4D53B96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8D9-E736-4984-A181-CD9948DD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73F8-9D27-43C6-B835-4C4CFF66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2CB7F3-D966-4D2F-8F0F-DD2EA969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D992AD-ADA7-4D0E-9C92-747BDA38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376123-618F-4F03-AD45-7476588A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CDAA8B-E35C-43E3-84BC-E547949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1136CD-0B65-476F-811B-8100BFF1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7E6CA2-F80C-452D-B82A-CA28E5BC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6F9BB7-F5F3-4881-AEA6-C01A5B78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851FD0-29A5-4F37-9229-63457685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AD1CC2-8EE4-405D-A29D-493FB574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89AEE2-A840-4328-8DD8-8A68B7C2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1429-8E43-4E0B-B02E-23B14B72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A85F10-7173-40E6-9EFA-E718DDC4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D75197-2FDC-4E41-81DF-AAF0AA00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B7DB6B-1B31-44D7-8089-21F3D39B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2D4636-D5E6-4CC8-ACC1-133DDCE3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84C0D6-CADB-4F94-8597-A4D1E4D2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2F850D-BE4A-45A3-B359-A8128BC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8E924D-AFAC-4F8C-8BDC-2770A85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84A7DA-F5CD-4D80-BFE3-9D79A901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AFF6E0-6032-4DD2-9BC2-41CF6E0C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787E71-7958-4290-82A4-7CE71309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A86F-A258-4B4C-9D27-301B3982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8A3198-4A9B-4451-9F34-220D00E0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9A6FAE-75FE-46FD-AF80-BA9FE9A6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26460C-3BA2-4DE5-9D1F-AC1E8870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7C9800-6835-4034-BC44-46D9A7A0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9E8B75-C8B4-4A50-923B-39712DEE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FB5981-DF0C-4548-952E-AECB55C3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7D1272-8B58-443D-B644-EEE9B8E3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5F4BAD-BB1C-424D-9C38-3DC8F0D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A5670E-990D-4155-87C1-F1BAD10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0892C0-CBFA-40FC-94EF-8EEB1318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0158-27A9-48D7-AC70-E8B4DA3D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6D0F52-F842-4605-A45A-D94E5002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3D1A8C-FC4C-46E4-ACCE-431F2E6C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CA5910-9D4D-4024-9706-3605D6D7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943074-9A79-4689-9D89-DD26C0E8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D78721-2C23-4905-A825-2404ABA4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52302A-B92B-4EC8-9799-F4B65C80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CB7E3B-6DD0-4B2E-873B-49B2D767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436596-6360-457F-A81C-79F1FC42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CA4804-5E7A-4EE0-9BF9-7AEA15C3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E6464A-F5BC-4F64-B6B9-501AFB73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CB60-4D26-403B-970C-7F2A293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ABDFC2-17C8-499C-A93F-2CB4E7B4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48A02A-9FEB-417A-90E4-BD6B6B7D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A6C556-503E-490F-B3B2-193FE19F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A86822-0D04-4267-8891-53050ACF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F99A7D-498A-4799-9CC7-D4BF0968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228E4C-F8A8-4588-A42C-B43E755B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9F26C7-11FD-4E56-82A1-27C3DA9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E9DB59-080C-421F-8A8A-51684B0E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C1BD85-1C31-4104-8A93-9CCC9263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EA5976-84FF-497E-A9AE-B075427D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9A255-FA98-4C71-B0B1-A373BD72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E03EBD-4B36-4B51-AC68-1AD11A7F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5A303C-3AC5-4FAC-8B06-869B1F1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5BE4FA8-E7FF-4211-9759-6D8F86C9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09771C-8B61-40C3-BDE5-F8438BEA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FF83D59-A262-4BBB-BA23-A3BA6E55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50F6DB-E956-45C5-80B3-947B3939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89FB58-C076-4151-B599-3FCD9E56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B4098C-9D5F-454A-A489-A4C39E04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BD4CE2A-D6A8-4A5D-A10F-C7E3E228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4F9C07-36F9-4403-A490-51D2D2DE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024E-DF77-4F6D-A0B5-3F93C009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B12F20-D88A-4A14-954A-D1D3F97C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70BAAB-251B-4AA7-9D2F-6D7D1E19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7D531B-93C8-409C-A14C-79DC78A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366C8F-3C2D-4889-917C-AB7FE3E9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EF9699-B93F-4CA7-982D-302D5A9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9A0D6E-F12E-49AB-AD81-533BA2E7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99B4B7F-6219-41E7-8E32-9157456C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4D2AD4-3B19-427F-9E9E-F1873594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7517CD-E96A-40F4-820C-59FD0CE9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5D8C92-C324-4B50-A962-5AB0D719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3A986-364B-49CD-BCA6-7E6A8124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972DAF-4A41-4036-831A-DF5A5C96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88F0A0-08B1-4B37-87B6-58AAB0A8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01517A-4D7C-4C03-966C-2D088ACE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4AC3D2-6A7A-4F15-AA36-3BE32DA2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1BC723-69F4-4A77-8BA5-5056838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ED1F73-2B5E-4483-BB03-9D9F25C8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1B71EB-C12F-4DFF-9B09-F1781329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D05D35-DC69-46A6-A869-A1A5CAFE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0F5BD8-49D1-4BD8-879A-E664CF5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FBA53F-AEB5-4583-AA01-CCFDD3FE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360DC-0407-49F9-AC95-9D77A811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1BBDEB-7D63-40B6-9A69-50394D2F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9061-6ADB-44EE-BB40-983AC55D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EE4-99E2-42BF-94FF-557F1786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0A9B2-C716-4757-8557-B0D5A2AD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F026-1489-4967-9EE5-61D100F6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7E825-DCAB-42A1-9D4F-F679FB97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3F08-1BEB-4883-8F86-6033C7F3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7629-9261-458E-BD2C-473A4CE0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7FC7-40F6-4860-86B4-5CBA14D6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2C836-979D-4319-B9C7-4CA50226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3DF1E-A90C-4DFA-9DAF-DA5E391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1C1B-D81C-440C-A288-97F016FE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8AE1-A0D5-4FAD-B1AA-97F785DE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CAA-B6BE-45D7-9D71-E3773416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89B1E-8F4B-4A2D-AC0C-A1E268B8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FCECA-E9F5-4E6B-A590-2E736617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36790-A05E-4AF8-BF3B-74291728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50C34-075E-4775-BB44-65DDE4D3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7FAA1-7C2A-485B-8140-32823CE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080A0-3266-44DA-91B7-18E8AD4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89D73-D419-4E93-8536-4FE562DE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6FD69-6F71-46A6-BE2A-CEEF7AD8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BD5C7-3DCA-427B-A398-CA419FA5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16F57-6991-4E55-B7FC-76D5861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D38-F9EE-4234-87A3-872A0963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8D597-465A-4F49-A1C8-BA082E0F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85C26-DF0F-4F73-A569-701B033A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2350A-DB4E-4CA3-BF1B-F35FA78B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79C5E-BC2E-4D29-B48B-30672855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21A36-D85B-41E5-A0A1-981496A1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1410-EFB2-4A20-90A4-2A84F48D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AEE9A-5ADE-4623-B4FA-384905C4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D2599-599E-4537-BD1A-59104A0B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A87CE-FE52-483B-B18A-194AEE6F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28272-1D5E-4864-887F-B0CA98F0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8E8-10AB-4AF0-984C-F66F6D8F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1A39-1153-4B76-A7F8-FF7B4FC1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EB182-3A65-4764-AC70-1431EF3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ECA2F-664D-4793-BADB-CAE45EB8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B4DD4-0494-4F98-824A-D90DD7D6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AD4AF-9C59-4029-ABF0-EFAD9BE3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3EFB-D934-4F35-80D9-BE3A947F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5098F-F9AD-4966-9ED4-0ED8B244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F7EFF-216B-4195-B8AD-792E15CE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D62BE-F899-404C-A1FF-8984DEB1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01156-B1B1-4767-9C5F-B742FE9F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967-81D2-4FAC-BEF7-DB6536C1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861FB-D628-4A46-A77C-9C2CF8A3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33CE4-EDC3-4203-AC33-C34C411B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4390C-583F-45C4-B489-6180FB1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2DD92-501A-4245-9FDA-1FE9C75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5F8F7-ACE4-4658-9A65-6BEC3E04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5383E-3E90-462F-8375-247F141F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D0757-B581-4E80-A11F-EC4FDD9D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C2C2C-508A-4E19-A5D7-DF560967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41C28-278F-40F7-A7CC-2ADD72EF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9D2AD-8E45-40FE-BB38-7B75B71F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60B-7131-48CE-8AEE-8847A9AAD2B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1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2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2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3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D685-3514-463C-A81A-2BCE05CD281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66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67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484A-20B9-48D9-A4FC-AB5786A6291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3A02-1BE8-485A-9CD9-5A47C2A3A74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5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5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6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894D-DEE1-48F1-91FA-C53D185152E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0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0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0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3A31-5171-4438-9CF6-849DB72B16D5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50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5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53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1B39-ABAE-4D8D-9DDB-669ABB0DC6E5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9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9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9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00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1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2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0ABF-4A98-4481-BB20-3423667E965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4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4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4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7928-B0B6-4A75-B6EC-8D83F3356DF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9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9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9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F167-8A77-4322-A375-6DD5AB5D709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3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3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84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41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B6D8-4933-41C6-B438-6A155C40B39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590B-86F0-458A-A779-98C4BFA7BB1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84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85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6006-B56E-4A08-AC6F-16E1AEE4E07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2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3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3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CB64-D05A-4FF5-8D32-B4E6B710FA1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7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7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7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2F91-CE87-4F58-A6ED-F5613257EDF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2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2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2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AEBC-2F84-4DF1-B9FC-E06485B96405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6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6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7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A69A-9F70-4FA8-8686-7C0F9F2A5A0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14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1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17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18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19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0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D503-F90F-40F5-9A24-8A5ED02ED68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6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6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6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4D1D-7AFF-4416-A968-E7788EBA6C7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0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1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1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A085-4B12-4161-AE4F-51D05C30836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5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5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5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59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9FF7-1D93-4C31-8739-8F1DC1811F9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02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03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580E-3F85-4445-9781-5A62EE768A1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A2D8-6048-481E-B586-FD161066809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104D-18AE-4588-A9D2-85B86DC667A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AB30-6475-4C14-8944-F715AE9E0D6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0A1A-5731-458E-999A-57024AA31A1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8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8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8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5DE-1580-467E-97D5-062630E92D3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36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7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8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6BDD-433A-413C-94A9-063C1BB505C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8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8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8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6822-32AC-4352-BDDB-67EE72C1240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0D7F-124F-465E-832D-F1CDB88C1C3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77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90E8-A94B-46E8-9BC8-DFB7175405F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20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21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EA52-7C88-405F-AFEB-8B291277BD1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6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6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76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3E3F-61D5-4F56-B0BA-4DCB6DE5ADA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F2F5-A043-47F5-B951-E84A379CFCF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488F-4916-4A1C-825E-FF163E2C26B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F1B9-4726-4C43-9E15-92B079D1B53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B9C4-25C8-4CED-A586-917C61B716F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7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7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8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2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3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4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696E-5BFF-4A4C-8D66-3E6D9B1BE30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D04D-3C29-4D75-AD4F-01CB1FEC8C6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E3C1-FEC2-4162-97A0-86B66F59D78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TextBox 2"/>
          <p:cNvSpPr/>
          <p:nvPr/>
        </p:nvSpPr>
        <p:spPr>
          <a:xfrm>
            <a:off x="1084320" y="21700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幼圆"/>
                <a:ea typeface="幼圆"/>
              </a:rPr>
              <a:t>4.</a:t>
            </a:r>
            <a:r>
              <a:rPr b="1" lang="zh-CN" sz="4800" spc="-1" strike="noStrike">
                <a:solidFill>
                  <a:srgbClr val="0000cc"/>
                </a:solidFill>
                <a:latin typeface="幼圆"/>
                <a:ea typeface="幼圆"/>
              </a:rPr>
              <a:t>口语交际：有趣的动物</a:t>
            </a:r>
            <a:endParaRPr b="0" lang="en-US" sz="4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7" name="TextBox 3"/>
          <p:cNvSpPr/>
          <p:nvPr/>
        </p:nvSpPr>
        <p:spPr>
          <a:xfrm>
            <a:off x="2031120" y="42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8" name="TextBox 4"/>
          <p:cNvSpPr/>
          <p:nvPr/>
        </p:nvSpPr>
        <p:spPr>
          <a:xfrm>
            <a:off x="488880" y="5129280"/>
            <a:ext cx="69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苏州市吴江区小学组块教学研究室 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朱祺  赵桂芝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直接连接符 70"/>
          <p:cNvSpPr/>
          <p:nvPr/>
        </p:nvSpPr>
        <p:spPr>
          <a:xfrm>
            <a:off x="912960" y="1371600"/>
            <a:ext cx="7318080" cy="0"/>
          </a:xfrm>
          <a:prstGeom prst="line">
            <a:avLst/>
          </a:prstGeom>
          <a:ln w="648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714240" y="1836720"/>
            <a:ext cx="75168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苏州市吴江区小学组块教学研究室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朱祺 赵桂芝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开 发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15760" y="447480"/>
            <a:ext cx="3197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猜猜我是谁？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0" name="图片占位符 4" descr=""/>
          <p:cNvPicPr/>
          <p:nvPr/>
        </p:nvPicPr>
        <p:blipFill>
          <a:blip r:embed="rId1"/>
          <a:srcRect l="341" t="0" r="341" b="0"/>
          <a:stretch/>
        </p:blipFill>
        <p:spPr>
          <a:xfrm>
            <a:off x="4386240" y="627120"/>
            <a:ext cx="4478400" cy="4478400"/>
          </a:xfrm>
          <a:prstGeom prst="rect">
            <a:avLst/>
          </a:prstGeom>
          <a:ln w="0">
            <a:noFill/>
          </a:ln>
        </p:spPr>
      </p:pic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30360" y="1763640"/>
            <a:ext cx="31953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头戴红缨帽，身穿小绿袍；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学习人说话，小嘴真乖巧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钩钩嘴儿巧，身穿彩色袍，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鸟类里面找，学舌逗人笑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62" name="文本框 7"/>
          <p:cNvSpPr/>
          <p:nvPr/>
        </p:nvSpPr>
        <p:spPr>
          <a:xfrm>
            <a:off x="1200240" y="5029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谜底：（鹦鹉）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 txBox="1"/>
          <p:nvPr/>
        </p:nvSpPr>
        <p:spPr>
          <a:xfrm>
            <a:off x="739440" y="1200240"/>
            <a:ext cx="25542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习人说话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舌逗人笑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</p:txBody>
      </p:sp>
      <p:pic>
        <p:nvPicPr>
          <p:cNvPr id="1864" name="图片 4" descr=""/>
          <p:cNvPicPr/>
          <p:nvPr/>
        </p:nvPicPr>
        <p:blipFill>
          <a:blip r:embed="rId1"/>
          <a:stretch/>
        </p:blipFill>
        <p:spPr>
          <a:xfrm>
            <a:off x="6480000" y="2739960"/>
            <a:ext cx="1860840" cy="1860480"/>
          </a:xfrm>
          <a:prstGeom prst="rect">
            <a:avLst/>
          </a:prstGeom>
          <a:ln w="0">
            <a:noFill/>
          </a:ln>
        </p:spPr>
      </p:pic>
      <p:sp>
        <p:nvSpPr>
          <p:cNvPr id="1865" name="思想气泡: 云 5"/>
          <p:cNvSpPr/>
          <p:nvPr/>
        </p:nvSpPr>
        <p:spPr>
          <a:xfrm>
            <a:off x="3564000" y="969840"/>
            <a:ext cx="3643200" cy="1576440"/>
          </a:xfrm>
          <a:prstGeom prst="cloudCallout">
            <a:avLst>
              <a:gd name="adj1" fmla="val 51282"/>
              <a:gd name="adj2" fmla="val 87615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么猜出来的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66" name="思想气泡: 云 6"/>
          <p:cNvSpPr/>
          <p:nvPr/>
        </p:nvSpPr>
        <p:spPr>
          <a:xfrm>
            <a:off x="2336760" y="4297320"/>
            <a:ext cx="3456000" cy="1511280"/>
          </a:xfrm>
          <a:prstGeom prst="cloudCallout">
            <a:avLst>
              <a:gd name="adj1" fmla="val 80351"/>
              <a:gd name="adj2" fmla="val -52037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有趣吗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8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69" name="文本框 11"/>
          <p:cNvSpPr/>
          <p:nvPr/>
        </p:nvSpPr>
        <p:spPr>
          <a:xfrm>
            <a:off x="244440" y="1792440"/>
            <a:ext cx="3962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你对我的介绍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还满意吗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71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11"/>
          <p:cNvSpPr/>
          <p:nvPr/>
        </p:nvSpPr>
        <p:spPr>
          <a:xfrm>
            <a:off x="244440" y="1792440"/>
            <a:ext cx="3962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谁也能试一试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文本框 22"/>
          <p:cNvSpPr/>
          <p:nvPr/>
        </p:nvSpPr>
        <p:spPr>
          <a:xfrm>
            <a:off x="630360" y="341280"/>
            <a:ext cx="78832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我是小小讲解员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74" name="图片 23" descr=""/>
          <p:cNvPicPr/>
          <p:nvPr/>
        </p:nvPicPr>
        <p:blipFill>
          <a:blip r:embed="rId1"/>
          <a:stretch/>
        </p:blipFill>
        <p:spPr>
          <a:xfrm>
            <a:off x="773280" y="1314360"/>
            <a:ext cx="7597440" cy="4280040"/>
          </a:xfrm>
          <a:prstGeom prst="rect">
            <a:avLst/>
          </a:prstGeom>
          <a:ln w="0">
            <a:noFill/>
          </a:ln>
        </p:spPr>
      </p:pic>
      <p:sp>
        <p:nvSpPr>
          <p:cNvPr id="1875" name="文本框 24"/>
          <p:cNvSpPr/>
          <p:nvPr/>
        </p:nvSpPr>
        <p:spPr>
          <a:xfrm>
            <a:off x="630360" y="5753160"/>
            <a:ext cx="7883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小朋友，你能为游客介绍大象吗？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6" name="内容占位符 4" descr=""/>
          <p:cNvPicPr/>
          <p:nvPr/>
        </p:nvPicPr>
        <p:blipFill>
          <a:blip r:embed="rId1"/>
          <a:stretch/>
        </p:blipFill>
        <p:spPr>
          <a:xfrm>
            <a:off x="163440" y="182520"/>
            <a:ext cx="4286160" cy="2724120"/>
          </a:xfrm>
          <a:prstGeom prst="rect">
            <a:avLst/>
          </a:prstGeom>
          <a:ln w="0">
            <a:noFill/>
          </a:ln>
        </p:spPr>
      </p:pic>
      <p:pic>
        <p:nvPicPr>
          <p:cNvPr id="1877" name="图片 6" descr=""/>
          <p:cNvPicPr/>
          <p:nvPr/>
        </p:nvPicPr>
        <p:blipFill>
          <a:blip r:embed="rId2"/>
          <a:stretch/>
        </p:blipFill>
        <p:spPr>
          <a:xfrm>
            <a:off x="4626000" y="182520"/>
            <a:ext cx="4338720" cy="2724120"/>
          </a:xfrm>
          <a:prstGeom prst="rect">
            <a:avLst/>
          </a:prstGeom>
          <a:ln w="0">
            <a:noFill/>
          </a:ln>
        </p:spPr>
      </p:pic>
      <p:pic>
        <p:nvPicPr>
          <p:cNvPr id="1878" name="图片 10" descr=""/>
          <p:cNvPicPr/>
          <p:nvPr/>
        </p:nvPicPr>
        <p:blipFill>
          <a:blip r:embed="rId3"/>
          <a:stretch/>
        </p:blipFill>
        <p:spPr>
          <a:xfrm>
            <a:off x="0" y="2992320"/>
            <a:ext cx="4449600" cy="3235320"/>
          </a:xfrm>
          <a:prstGeom prst="rect">
            <a:avLst/>
          </a:prstGeom>
          <a:ln w="0">
            <a:noFill/>
          </a:ln>
        </p:spPr>
      </p:pic>
      <p:pic>
        <p:nvPicPr>
          <p:cNvPr id="1879" name="图片 12" descr=""/>
          <p:cNvPicPr/>
          <p:nvPr/>
        </p:nvPicPr>
        <p:blipFill>
          <a:blip r:embed="rId4"/>
          <a:stretch/>
        </p:blipFill>
        <p:spPr>
          <a:xfrm>
            <a:off x="4626000" y="2992320"/>
            <a:ext cx="4338720" cy="323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0" name="图片 5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2835360" cy="2297160"/>
          </a:xfrm>
          <a:prstGeom prst="rect">
            <a:avLst/>
          </a:prstGeom>
          <a:ln w="0">
            <a:noFill/>
          </a:ln>
        </p:spPr>
      </p:pic>
      <p:sp>
        <p:nvSpPr>
          <p:cNvPr id="1881" name="思想气泡: 云 6"/>
          <p:cNvSpPr/>
          <p:nvPr/>
        </p:nvSpPr>
        <p:spPr>
          <a:xfrm>
            <a:off x="4413240" y="1849320"/>
            <a:ext cx="4141800" cy="2478240"/>
          </a:xfrm>
          <a:prstGeom prst="cloudCallout">
            <a:avLst>
              <a:gd name="adj1" fmla="val -77333"/>
              <a:gd name="adj2" fmla="val 29638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黑体"/>
              </a:rPr>
              <a:t>来到新班级，可以怎样介绍自己？谁来试一试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思想气泡: 云 6"/>
          <p:cNvSpPr/>
          <p:nvPr/>
        </p:nvSpPr>
        <p:spPr>
          <a:xfrm rot="21420000">
            <a:off x="4465440" y="1464840"/>
            <a:ext cx="3606480" cy="2719440"/>
          </a:xfrm>
          <a:prstGeom prst="cloudCallout">
            <a:avLst>
              <a:gd name="adj1" fmla="val -69361"/>
              <a:gd name="adj2" fmla="val 37490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能夸一夸身边的同学们吗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3" name="文本框 1"/>
          <p:cNvSpPr/>
          <p:nvPr/>
        </p:nvSpPr>
        <p:spPr>
          <a:xfrm>
            <a:off x="165240" y="482760"/>
            <a:ext cx="54356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84" name="图片 5" descr=""/>
          <p:cNvPicPr/>
          <p:nvPr/>
        </p:nvPicPr>
        <p:blipFill>
          <a:blip r:embed="rId1"/>
          <a:stretch/>
        </p:blipFill>
        <p:spPr>
          <a:xfrm>
            <a:off x="757080" y="2909880"/>
            <a:ext cx="2833920" cy="229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35:00Z</dcterms:created>
  <dc:creator>盛zhe</dc:creator>
  <dc:description/>
  <dc:language>en-US</dc:language>
  <cp:lastModifiedBy>_</cp:lastModifiedBy>
  <dcterms:modified xsi:type="dcterms:W3CDTF">2017-08-21T03:40:16Z</dcterms:modified>
  <cp:revision>15</cp:revision>
  <dc:subject/>
  <dc:title>板块一、猜谜游戏：猜猜我是谁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